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0EE-640E-45C0-B09E-A95DDF75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051-C12A-45F9-B75C-2DEB52B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EDD-DD55-425D-9E61-B7254E7B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0F5-F003-4A68-8EAF-EE6DAD34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22FD-3CC5-4B98-8EEA-AACC480E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95B-A4FD-417B-BC09-C7A71FC1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3854-8110-4722-907B-F2C0A706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AFF0-0E37-42B3-A29C-0686F16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7269-A0C0-484E-B9FC-D140676D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4CB2-ECEA-4A93-9453-81DBBD35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6FF8-25AA-4C35-8DAB-2547E33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9D3-795B-4336-A6E3-3A8C954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EE9D-F699-40DE-AE9E-BF7CC80B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39EB-53AB-443B-BA77-7C2610E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10F7-A0FF-4EBB-8C37-D6FFAEC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31DD-EDD1-4D00-8987-28D05F08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D2A7-3FC2-4224-867E-17AA8AE0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82A-8408-4B51-B26F-89A54FCB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1C2-B6FD-490D-A66E-3EC6BA31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D2F-98DC-400B-BBC0-F81935B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666-46F8-454F-8592-52D29E7C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D2E-2A7C-4E5D-AFCB-D308546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2EF-A82B-4F1C-814B-D9B7D950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10E-1CC0-4333-B875-12BF373E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598D-AA4D-4D77-8003-98FB424E271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3A22-9FF2-41D3-9899-F3A4E0D13A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Dangerous Game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y Richard Connel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33" name="Object 1029"/>
          <p:cNvGraphicFramePr/>
          <p:nvPr/>
        </p:nvGraphicFramePr>
        <p:xfrm>
          <a:off x="1143000" y="2514600"/>
          <a:ext cx="15462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15462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ainsford is motivated by the desire to stay ali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f Zaroff catches him he will be killed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Zaroff is motivated by the desire to be challenged in the hu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nimals had ceased to challenge him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ainsford had presented the best challenge yet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ainsford is a dynamic characte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 the beginning he believes that animals don’t feel any fear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nce he is hunted and feels fear he says he knows how animals fe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en he confronts Zaroff at the end Rainsford tells Zaroff that he is still a beast at bay -- he has adopted an animal mentality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Universal Them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order to fully understand others, we must first walk in their sho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od is suspenseful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me of the island -- Ship-Trap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l the references to darkn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has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’s tone is straightforward and non-judgmental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nell doesn’t show bias toward Rainsford or Zaroff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doesn’t judge Zaroff’s game or Rainsford’s opinion of hunted animal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doesn’t comment on the events of the story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chooses a third person limited point of view and remains within that contex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extual Analysis Terms and Definition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eshado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ive hints about future ev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mager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tails that appeal to the five sens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otif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ttern of images or symbo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this story darkness is the moti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mat for the Plot Dia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1447920" y="5486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3429000" y="3124080"/>
            <a:ext cx="152388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952880" y="3124080"/>
            <a:ext cx="13716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6324480" y="54864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371600" y="57150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xposition --introduces the characters, background and set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038480" y="457200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flict -- struggle between opposing fo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676520" y="33526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ising Action -- three statements that summarize the s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962520" y="220968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x-- point where the protagonist cha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791320" y="297180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alling action -- one statement about what leads to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400800" y="46483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solution --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llus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ference to a famous work of art, literature, music, etc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yperbol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treme exaggeration for effec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lot Dia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371600" y="5181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3505320" y="3429000"/>
            <a:ext cx="17524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5257800" y="3429000"/>
            <a:ext cx="190512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7162920" y="53341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371600" y="5334120"/>
            <a:ext cx="304812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tting:  Ship-Trap Is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tagonist -- Rainsf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tagonist --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Zar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191120" y="4572000"/>
            <a:ext cx="2057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fli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n Vs. 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n Vs. Na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n Vs. Sel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838080" y="3276720"/>
            <a:ext cx="3124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jumps over the cliff to escape from Zar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is hunted by Zar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swims to Ship-Trap Island after falling off the yac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114800" y="26668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hides in Zaroff’s ro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095880" y="3352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and Zaroff f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010280" y="47242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ainsford kills Zar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haracter Analysis of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iz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insford is an excellent hunter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has written a book about hunting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recognizes the cartridge that he picks up as that of a twenty-two caliber gun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sets traps for Zaroff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insford is the only person to survive the game with Zaroff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752480" y="2362320"/>
            <a:ext cx="67820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insford doesn’t view hunting animals as mur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animals don’t understand f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that Zaroff is a murderer because he hunts people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an excellent hu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 one has survived his game so far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is no longer challenged by hunting animal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has read lots of books about hunting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600200" y="2286000"/>
            <a:ext cx="685800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sophisticated and refine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has read books about hunting that were written in English, French and Russi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hums a tune from an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lives in a well decorated Chateau (oaken panels, high ceiling, vast refectory t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 serves a sophisticated, refined meal to Rainsford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either evil or animalisti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ck black eyebrows and pointed black moustache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ack, bright ey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ad black eyes (pg. 23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ious, red-lipped smile (18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8:00:12Z</dcterms:created>
  <dc:creator>Cumberland County Schools</dc:creator>
  <dc:description/>
  <dc:language>en-US</dc:language>
  <cp:lastModifiedBy>Beth Ragland</cp:lastModifiedBy>
  <dcterms:modified xsi:type="dcterms:W3CDTF">2011-08-30T12:13:35Z</dcterms:modified>
  <cp:revision>23</cp:revision>
  <dc:subject/>
  <dc:title>“The Most Dangerous Game” by Richard Connell</dc:title>
</cp:coreProperties>
</file>